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CA1-4F7A-4937-B497-10E0074D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402-7717-4E39-BDF0-F257985E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35C-E943-4E63-B65A-CA7E26D6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D06-1B1A-4F5D-A5D3-F88A5B15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245-BD09-40D1-B515-A0FB9FCA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EC7-661C-4DB6-BF2C-9CA99BFC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224-DCEE-4750-8D60-81FC2906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563-5FA3-4450-B216-AEF5DA36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F48-E1E9-47DF-97FC-2569F4C4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BFA-7495-48B0-930F-9E228A5B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764-88D4-437A-AEA5-4BAD0E82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A11-F437-49E9-B8BB-6FA3E48D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62FD-5112-4F02-A2ED-EEDB1010C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3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3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8760" y="1965240"/>
            <a:ext cx="4686480" cy="293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2:25:37Z</dcterms:created>
  <dc:creator>Mark S. Spencer</dc:creator>
  <dc:description/>
  <dc:language>en-US</dc:language>
  <cp:lastModifiedBy>Mark S. Spencer</cp:lastModifiedBy>
  <dcterms:modified xsi:type="dcterms:W3CDTF">2008-12-06T16:20:46Z</dcterms:modified>
  <cp:revision>20</cp:revision>
  <dc:subject/>
  <dc:title>Slide 1</dc:title>
</cp:coreProperties>
</file>