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88B9-E6F1-4366-B36C-66E28771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58F5-0F94-4F46-A9E6-4DA3176F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6F84-4AAF-48DA-9166-30024DD6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06D5-AD5E-4285-A041-4AF6DF69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4506-6E6C-473A-9443-23894DBA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44A9-3814-4460-95FF-F689B956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954E-74C9-4F57-89D3-1D1006FA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9237-7A61-45DC-BBA8-75D509D3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66F6-BA6B-4BA5-BD96-9CC5ACFE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66B-4083-44F9-AE4E-1C00DD19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0961-A4B3-4355-9F96-2300DD57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426E-E106-4FEB-9B4E-5B9AF493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EF2F-36CD-4C10-948D-8E2370E6D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gmr1" descr=""/>
          <p:cNvPicPr/>
          <p:nvPr/>
        </p:nvPicPr>
        <p:blipFill>
          <a:blip r:embed="rId1"/>
          <a:stretch/>
        </p:blipFill>
        <p:spPr>
          <a:xfrm>
            <a:off x="1731960" y="2095560"/>
            <a:ext cx="568008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286000" y="51055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r Board Bottom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.92” x 6.21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43200" y="5029200"/>
            <a:ext cx="4191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Logic Board Top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.37” x 5.9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ic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396040" cy="216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cvr" descr=""/>
          <p:cNvPicPr/>
          <p:nvPr/>
        </p:nvPicPr>
        <p:blipFill>
          <a:blip r:embed="rId1"/>
          <a:srcRect l="0" t="20671" r="0" b="0"/>
          <a:stretch/>
        </p:blipFill>
        <p:spPr>
          <a:xfrm>
            <a:off x="1828800" y="1494000"/>
            <a:ext cx="5551560" cy="280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2590920" y="480060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Board Bottom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.07” x 6.07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5T17:09:49Z</dcterms:created>
  <dc:creator>Tom Duncan</dc:creator>
  <dc:description/>
  <dc:language>en-US</dc:language>
  <cp:lastModifiedBy>R. J. (Bob) Schetgen, KU7G</cp:lastModifiedBy>
  <cp:lastPrinted>1999-10-06T20:20:56Z</cp:lastPrinted>
  <dcterms:modified xsi:type="dcterms:W3CDTF">1999-12-20T22:08:20Z</dcterms:modified>
  <cp:revision>5</cp:revision>
  <dc:subject/>
  <dc:title>No Slide Title</dc:title>
</cp:coreProperties>
</file>